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Earth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3"/>
          <p:cNvSpPr/>
          <p:nvPr/>
        </p:nvSpPr>
        <p:spPr>
          <a:xfrm>
            <a:off x="1295280" y="251460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ca22"/>
                </a:solidFill>
                <a:latin typeface="Times New Roman"/>
              </a:rPr>
              <a:t>Chapter 11:  The Sun, Earth, Moon and the Season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gnetic Fiel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85800" y="3429000"/>
            <a:ext cx="75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magnetic field protects you from harmful solar radiation by trapping many charged particles from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09480" y="1676520"/>
            <a:ext cx="75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ollowed a compass needle, you would end up at the magnetic north pole rather than the rotational north pol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"/>
          <p:cNvSpPr/>
          <p:nvPr/>
        </p:nvSpPr>
        <p:spPr>
          <a:xfrm>
            <a:off x="685800" y="1752480"/>
            <a:ext cx="7280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herical Shap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ound, three-dimensional object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sphe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Text Box 3"/>
          <p:cNvSpPr/>
          <p:nvPr/>
        </p:nvSpPr>
        <p:spPr>
          <a:xfrm>
            <a:off x="685800" y="3505320"/>
            <a:ext cx="53341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surface is the same distance from its center at all point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Text Box 10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roperties of Earth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Picture 2" descr="200235995-001.png"/>
          <p:cNvPicPr/>
          <p:nvPr/>
        </p:nvPicPr>
        <p:blipFill>
          <a:blip r:embed="rId1"/>
          <a:stretch/>
        </p:blipFill>
        <p:spPr>
          <a:xfrm>
            <a:off x="5867280" y="30481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644400" y="219060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totle, a Greek astronomer and philosopher who lived arou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50 B.C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suspected that Earth was spherical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644400" y="4137120"/>
            <a:ext cx="42325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observed that Earth cast a curved shadow on the Moon during an eclips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1593720" y="633240"/>
            <a:ext cx="511200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roperties of Earth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—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Spherical Sha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" descr="images.jpeg"/>
          <p:cNvPicPr/>
          <p:nvPr/>
        </p:nvPicPr>
        <p:blipFill>
          <a:blip r:embed="rId1"/>
          <a:stretch/>
        </p:blipFill>
        <p:spPr>
          <a:xfrm>
            <a:off x="5029200" y="3733920"/>
            <a:ext cx="3670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644400" y="1676520"/>
            <a:ext cx="7585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sailors, for example, noticed that the tops of approaching ships appeared first on the horizon and the rest appeared gradually, as if they were coming over the crest of a hill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7" descr="im02"/>
          <p:cNvPicPr/>
          <p:nvPr/>
        </p:nvPicPr>
        <p:blipFill>
          <a:blip r:embed="rId1"/>
          <a:stretch/>
        </p:blipFill>
        <p:spPr>
          <a:xfrm>
            <a:off x="3733920" y="3581280"/>
            <a:ext cx="4267080" cy="232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1593720" y="633240"/>
            <a:ext cx="511200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Properties of Earth</a:t>
            </a: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—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  <a:ea typeface="Times New Roman"/>
              </a:rPr>
              <a:t>Spherical Shap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dditional Eviden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44400" y="1219320"/>
            <a:ext cx="750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ilors also noticed that as they sailed north or south, the North Star moved higher or lower in the sky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11" descr="im05 earth"/>
          <p:cNvPicPr/>
          <p:nvPr/>
        </p:nvPicPr>
        <p:blipFill>
          <a:blip r:embed="rId1"/>
          <a:stretch/>
        </p:blipFill>
        <p:spPr>
          <a:xfrm>
            <a:off x="5334120" y="26668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NorthStar.jpg"/>
          <p:cNvPicPr/>
          <p:nvPr/>
        </p:nvPicPr>
        <p:blipFill>
          <a:blip r:embed="rId2"/>
          <a:stretch/>
        </p:blipFill>
        <p:spPr>
          <a:xfrm>
            <a:off x="304920" y="2743200"/>
            <a:ext cx="4537080" cy="291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North-Star-direction.jpg"/>
          <p:cNvPicPr/>
          <p:nvPr/>
        </p:nvPicPr>
        <p:blipFill>
          <a:blip r:embed="rId3"/>
          <a:stretch/>
        </p:blipFill>
        <p:spPr>
          <a:xfrm>
            <a:off x="304920" y="2971800"/>
            <a:ext cx="4951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ot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644400" y="1219320"/>
            <a:ext cx="781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ax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imaginary vertical line around which Earth spin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44400" y="2209680"/>
            <a:ext cx="4613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ine cuts directly through the center of Earth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44400" y="3581280"/>
            <a:ext cx="4232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oles are located at the north and south ends of 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axi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33240" y="5051520"/>
            <a:ext cx="796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inning of Earth on its axis, called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o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causes day and night to occu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13" descr="im06"/>
          <p:cNvPicPr/>
          <p:nvPr/>
        </p:nvPicPr>
        <p:blipFill>
          <a:blip r:embed="rId1"/>
          <a:stretch/>
        </p:blipFill>
        <p:spPr>
          <a:xfrm>
            <a:off x="5181480" y="2266920"/>
            <a:ext cx="31244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3" descr="im06"/>
          <p:cNvPicPr/>
          <p:nvPr/>
        </p:nvPicPr>
        <p:blipFill>
          <a:blip r:embed="rId1"/>
          <a:stretch/>
        </p:blipFill>
        <p:spPr>
          <a:xfrm>
            <a:off x="1905120" y="152280"/>
            <a:ext cx="6486480" cy="5577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AA028202.png"/>
          <p:cNvPicPr/>
          <p:nvPr/>
        </p:nvPicPr>
        <p:blipFill>
          <a:blip r:embed="rId2"/>
          <a:stretch/>
        </p:blipFill>
        <p:spPr>
          <a:xfrm rot="9268800">
            <a:off x="5931720" y="4914720"/>
            <a:ext cx="714600" cy="8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AA028202.png"/>
          <p:cNvPicPr/>
          <p:nvPr/>
        </p:nvPicPr>
        <p:blipFill>
          <a:blip r:embed="rId3"/>
          <a:stretch/>
        </p:blipFill>
        <p:spPr>
          <a:xfrm rot="3833400">
            <a:off x="7498080" y="3094560"/>
            <a:ext cx="714240" cy="81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AA028202.png"/>
          <p:cNvPicPr/>
          <p:nvPr/>
        </p:nvPicPr>
        <p:blipFill>
          <a:blip r:embed="rId4"/>
          <a:stretch/>
        </p:blipFill>
        <p:spPr>
          <a:xfrm rot="1928400">
            <a:off x="6553080" y="1143000"/>
            <a:ext cx="714600" cy="814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AA028202.png"/>
          <p:cNvPicPr/>
          <p:nvPr/>
        </p:nvPicPr>
        <p:blipFill>
          <a:blip r:embed="rId5"/>
          <a:stretch/>
        </p:blipFill>
        <p:spPr>
          <a:xfrm>
            <a:off x="4800600" y="1371600"/>
            <a:ext cx="714240" cy="81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AA028202.png"/>
          <p:cNvPicPr/>
          <p:nvPr/>
        </p:nvPicPr>
        <p:blipFill>
          <a:blip r:embed="rId6"/>
          <a:stretch/>
        </p:blipFill>
        <p:spPr>
          <a:xfrm rot="19503000">
            <a:off x="4206600" y="3331800"/>
            <a:ext cx="716040" cy="8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A028202.png"/>
          <p:cNvPicPr/>
          <p:nvPr/>
        </p:nvPicPr>
        <p:blipFill>
          <a:blip r:embed="rId7"/>
          <a:stretch/>
        </p:blipFill>
        <p:spPr>
          <a:xfrm>
            <a:off x="4648320" y="2819520"/>
            <a:ext cx="714240" cy="81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AA028202.png"/>
          <p:cNvPicPr/>
          <p:nvPr/>
        </p:nvPicPr>
        <p:blipFill>
          <a:blip r:embed="rId8"/>
          <a:stretch/>
        </p:blipFill>
        <p:spPr>
          <a:xfrm rot="19840200">
            <a:off x="3885840" y="990720"/>
            <a:ext cx="71424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ot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44400" y="1244520"/>
            <a:ext cx="796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Earth rotates, you can see the Sun come into view at daybreak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44400" y="2289240"/>
            <a:ext cx="75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continues to spin, making it seem as if the Sun moves across the sky until it sets at nigh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44400" y="3778200"/>
            <a:ext cx="796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night, your area of Earth has rotated so that it is facing away from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85800" y="4724280"/>
            <a:ext cx="8153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complete rotation takes about 24 hours, or one day (about 365 rotations during its one year journey around the Sun.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593720" y="633240"/>
            <a:ext cx="5112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agnetic Fiel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128412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tists hypothesize that the movement of material inside 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core, along with 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rotation generates a </a:t>
            </a:r>
            <a:r>
              <a:rPr b="1" lang="en-US" sz="3200" spc="-1" strike="noStrike">
                <a:solidFill>
                  <a:srgbClr val="ecca22"/>
                </a:solidFill>
                <a:latin typeface="Times New Roman"/>
              </a:rPr>
              <a:t>magnetic fiel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09480" y="2590920"/>
            <a:ext cx="75852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’s magnetic axis does not align with its rotational axis. Earth has a </a:t>
            </a:r>
            <a:r>
              <a:rPr b="0" lang="en-US" sz="3200" spc="-1" strike="noStrike">
                <a:solidFill>
                  <a:srgbClr val="ecca22"/>
                </a:solidFill>
                <a:latin typeface="Times New Roman"/>
              </a:rPr>
              <a:t>north and south magnetic po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tion of magnetic poles slowly changes over tim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04920" y="5181480"/>
            <a:ext cx="8610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ca22"/>
                </a:solidFill>
                <a:latin typeface="Times New Roman"/>
              </a:rPr>
              <a:t>Many maps include information about the position of the magnetic north pole at the time the map was mad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9:51:36Z</dcterms:created>
  <dc:creator>Cherie Hatton</dc:creator>
  <dc:description/>
  <dc:language>en-US</dc:language>
  <cp:lastModifiedBy>St. Aloysius</cp:lastModifiedBy>
  <dcterms:modified xsi:type="dcterms:W3CDTF">2013-11-06T18:30:57Z</dcterms:modified>
  <cp:revision>496</cp:revision>
  <dc:subject/>
  <dc:title>Slide 1</dc:title>
</cp:coreProperties>
</file>